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BD49-35E9-4973-B21D-7BFB03A4D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4DDA-C28B-4076-8FF2-F8C0176F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846D-FAF1-484B-AE60-D045D229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A9A0-6726-4980-88E8-1A5FDB2AF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047B-6FF9-4ED2-8135-1584766C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2D18-6FE8-4842-A2D6-B7652464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ABF9-4CEF-4ECF-BBF3-D4884DCF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D558-176B-4CC0-A8A9-DB33DE29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F3AF-32D2-41A8-B4D0-C1C10779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02B2-FF78-4C21-A235-D0476D71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2F52-D079-495A-A20D-A379F7F4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56F7-AE9D-4778-BBED-40ADEE44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63E9-08A3-4109-8CCE-E330B9C0F017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nakehiss2.wav" TargetMode="External"/><Relationship Id="rId2" Type="http://schemas.openxmlformats.org/officeDocument/2006/relationships/image" Target="../media/image12.jpeg"/><Relationship Id="rId3" Type="http://schemas.openxmlformats.org/officeDocument/2006/relationships/hyperlink" Target="file:///tmp/home/.config/libreoffice/4/user/gallery/BIRD2.WAV" TargetMode="External"/><Relationship Id="rId4" Type="http://schemas.openxmlformats.org/officeDocument/2006/relationships/image" Target="../media/image12.jpeg"/><Relationship Id="rId5" Type="http://schemas.openxmlformats.org/officeDocument/2006/relationships/hyperlink" Target="file:///tmp/home/.config/libreoffice/4/user/gallery/Sound%20Effect%20-%20Frog%20Croak.wav" TargetMode="External"/><Relationship Id="rId6" Type="http://schemas.openxmlformats.org/officeDocument/2006/relationships/image" Target="../media/image12.jpeg"/><Relationship Id="rId7" Type="http://schemas.openxmlformats.org/officeDocument/2006/relationships/hyperlink" Target="file:///tmp/home/.config/libreoffice/4/user/gallery/PIG1.WAV" TargetMode="External"/><Relationship Id="rId8" Type="http://schemas.openxmlformats.org/officeDocument/2006/relationships/image" Target="../media/image12.jpeg"/><Relationship Id="rId9" Type="http://schemas.openxmlformats.org/officeDocument/2006/relationships/hyperlink" Target="file:///tmp/home/.config/libreoffice/4/user/gallery/Duck-quacking%20animals038.wav" TargetMode="External"/><Relationship Id="rId10" Type="http://schemas.openxmlformats.org/officeDocument/2006/relationships/image" Target="../media/image12.jpeg"/><Relationship Id="rId11" Type="http://schemas.openxmlformats.org/officeDocument/2006/relationships/hyperlink" Target="file:///tmp/home/.config/libreoffice/4/user/gallery/Sheep%20animals057.wav" TargetMode="External"/><Relationship Id="rId12" Type="http://schemas.openxmlformats.org/officeDocument/2006/relationships/image" Target="../media/image13.png"/><Relationship Id="rId13" Type="http://schemas.openxmlformats.org/officeDocument/2006/relationships/hyperlink" Target="file:///tmp/home/.config/libreoffice/4/user/gallery/Dog%20animals080.wav" TargetMode="External"/><Relationship Id="rId14" Type="http://schemas.openxmlformats.org/officeDocument/2006/relationships/image" Target="../media/image13.png"/><Relationship Id="rId15" Type="http://schemas.openxmlformats.org/officeDocument/2006/relationships/hyperlink" Target="file:///tmp/home/.config/libreoffice/4/user/gallery/HORSE.WAV" TargetMode="External"/><Relationship Id="rId16" Type="http://schemas.openxmlformats.org/officeDocument/2006/relationships/image" Target="../media/image14.png"/><Relationship Id="rId17" Type="http://schemas.openxmlformats.org/officeDocument/2006/relationships/hyperlink" Target="file:///tmp/home/.config/libreoffice/4/user/gallery/ROOSTER1.WAV" TargetMode="External"/><Relationship Id="rId18" Type="http://schemas.openxmlformats.org/officeDocument/2006/relationships/image" Target="../media/image15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191120" y="1828800"/>
            <a:ext cx="18396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4231800" y="182880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3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www.ucdavis.edu/images/features_level2/0208/cat1.jpg"/>
          <p:cNvPicPr/>
          <p:nvPr/>
        </p:nvPicPr>
        <p:blipFill>
          <a:blip r:embed="rId1"/>
          <a:stretch/>
        </p:blipFill>
        <p:spPr>
          <a:xfrm>
            <a:off x="0" y="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0" y="403848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Rectangle 4"/>
          <p:cNvSpPr/>
          <p:nvPr/>
        </p:nvSpPr>
        <p:spPr>
          <a:xfrm rot="16200000">
            <a:off x="3314520" y="5448240"/>
            <a:ext cx="2743200" cy="75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556272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462240" y="5749920"/>
            <a:ext cx="3800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C. meow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4954320" y="4267080"/>
            <a:ext cx="255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roadway"/>
              </a:rPr>
              <a:t>B. ow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899280" y="4343400"/>
            <a:ext cx="2487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Harlow Solid Italic"/>
              </a:rPr>
              <a:t>A. arf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0" name="TextBox 10"/>
          <p:cNvSpPr/>
          <p:nvPr/>
        </p:nvSpPr>
        <p:spPr>
          <a:xfrm>
            <a:off x="5263920" y="5749920"/>
            <a:ext cx="2878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Jokerman"/>
              </a:rPr>
              <a:t>D. eee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Rectangular Callout 14"/>
          <p:cNvSpPr/>
          <p:nvPr/>
        </p:nvSpPr>
        <p:spPr>
          <a:xfrm>
            <a:off x="4038480" y="228600"/>
            <a:ext cx="4876920" cy="2895480"/>
          </a:xfrm>
          <a:prstGeom prst="wedgeRectCallout">
            <a:avLst>
              <a:gd name="adj1" fmla="val -58217"/>
              <a:gd name="adj2" fmla="val -19699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How do I talk?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www.ucdavis.edu/images/features_level2/0208/cat1.jpg"/>
          <p:cNvPicPr/>
          <p:nvPr/>
        </p:nvPicPr>
        <p:blipFill>
          <a:blip r:embed="rId1"/>
          <a:stretch/>
        </p:blipFill>
        <p:spPr>
          <a:xfrm>
            <a:off x="0" y="0"/>
            <a:ext cx="42670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ular Callout 4"/>
          <p:cNvSpPr/>
          <p:nvPr/>
        </p:nvSpPr>
        <p:spPr>
          <a:xfrm>
            <a:off x="3962520" y="685800"/>
            <a:ext cx="4876560" cy="2895480"/>
          </a:xfrm>
          <a:prstGeom prst="wedgeRectCallout">
            <a:avLst>
              <a:gd name="adj1" fmla="val -62907"/>
              <a:gd name="adj2" fmla="val 40208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3840840" y="1371600"/>
            <a:ext cx="511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C. meow</a:t>
            </a:r>
            <a:endParaRPr b="0" lang="en-US" sz="9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4231800" y="182880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3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kikolani.com/wp-content/uploads/2009/02/bird.jpg"/>
          <p:cNvPicPr/>
          <p:nvPr/>
        </p:nvPicPr>
        <p:blipFill>
          <a:blip r:embed="rId1"/>
          <a:stretch/>
        </p:blipFill>
        <p:spPr>
          <a:xfrm>
            <a:off x="457200" y="1295280"/>
            <a:ext cx="3505320" cy="31226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0" y="403848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Rectangle 4"/>
          <p:cNvSpPr/>
          <p:nvPr/>
        </p:nvSpPr>
        <p:spPr>
          <a:xfrm rot="16200000">
            <a:off x="3314520" y="5448240"/>
            <a:ext cx="2743200" cy="75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556272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429480" y="5562720"/>
            <a:ext cx="326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C. eeee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5177880" y="4267080"/>
            <a:ext cx="3391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roadway"/>
              </a:rPr>
              <a:t>B. chirp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452160" y="4343400"/>
            <a:ext cx="3737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Harlow Solid Italic"/>
              </a:rPr>
              <a:t>A. quack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5042520" y="5749920"/>
            <a:ext cx="3448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Jokerman"/>
              </a:rPr>
              <a:t>D. cluck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Rectangular Callout 14"/>
          <p:cNvSpPr/>
          <p:nvPr/>
        </p:nvSpPr>
        <p:spPr>
          <a:xfrm>
            <a:off x="4038480" y="609480"/>
            <a:ext cx="4876920" cy="2895840"/>
          </a:xfrm>
          <a:prstGeom prst="wedgeRectCallout">
            <a:avLst>
              <a:gd name="adj1" fmla="val -56763"/>
              <a:gd name="adj2" fmla="val -21555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How do I sing?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ular Callout 4"/>
          <p:cNvSpPr/>
          <p:nvPr/>
        </p:nvSpPr>
        <p:spPr>
          <a:xfrm>
            <a:off x="3657600" y="228600"/>
            <a:ext cx="5257800" cy="3733920"/>
          </a:xfrm>
          <a:prstGeom prst="wedgeRectCallout">
            <a:avLst>
              <a:gd name="adj1" fmla="val -57666"/>
              <a:gd name="adj2" fmla="val 41601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6" name="Picture 2" descr="http://kikolani.com/wp-content/uploads/2009/02/bird.jpg"/>
          <p:cNvPicPr/>
          <p:nvPr/>
        </p:nvPicPr>
        <p:blipFill>
          <a:blip r:embed="rId1"/>
          <a:stretch/>
        </p:blipFill>
        <p:spPr>
          <a:xfrm>
            <a:off x="0" y="3735360"/>
            <a:ext cx="3505320" cy="3122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6"/>
          <p:cNvSpPr/>
          <p:nvPr/>
        </p:nvSpPr>
        <p:spPr>
          <a:xfrm>
            <a:off x="3657600" y="144792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roadway"/>
              </a:rPr>
              <a:t>B. chirp!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"/>
          <p:cNvSpPr/>
          <p:nvPr/>
        </p:nvSpPr>
        <p:spPr>
          <a:xfrm>
            <a:off x="4231800" y="182880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3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://www.mygtv.net/wp-content/uploads/2009/02/happy_cow_large.jpg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40957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0" y="403848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Rectangle 4"/>
          <p:cNvSpPr/>
          <p:nvPr/>
        </p:nvSpPr>
        <p:spPr>
          <a:xfrm rot="16200000">
            <a:off x="3314520" y="5448240"/>
            <a:ext cx="2743200" cy="75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556272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280440" y="5749920"/>
            <a:ext cx="345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C. um-o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4989960" y="4267080"/>
            <a:ext cx="343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roadway"/>
              </a:rPr>
              <a:t>B. hooo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316800" y="4343400"/>
            <a:ext cx="3181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Harlow Solid Italic"/>
              </a:rPr>
              <a:t>A. moo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5184720" y="5749920"/>
            <a:ext cx="287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Jokerman"/>
              </a:rPr>
              <a:t>D. few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Rectangular Callout 14"/>
          <p:cNvSpPr/>
          <p:nvPr/>
        </p:nvSpPr>
        <p:spPr>
          <a:xfrm>
            <a:off x="152280" y="380880"/>
            <a:ext cx="4267440" cy="2895840"/>
          </a:xfrm>
          <a:prstGeom prst="wedgeRectCallout">
            <a:avLst>
              <a:gd name="adj1" fmla="val 63185"/>
              <a:gd name="adj2" fmla="val 25814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How do I say hello?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ular Callout 4"/>
          <p:cNvSpPr/>
          <p:nvPr/>
        </p:nvSpPr>
        <p:spPr>
          <a:xfrm>
            <a:off x="228600" y="1828800"/>
            <a:ext cx="3048120" cy="2895480"/>
          </a:xfrm>
          <a:prstGeom prst="wedgeRectCallout">
            <a:avLst>
              <a:gd name="adj1" fmla="val 77662"/>
              <a:gd name="adj2" fmla="val 32314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9" name="Picture 2" descr="http://www.mygtv.net/wp-content/uploads/2009/02/happy_cow_large.jpg"/>
          <p:cNvPicPr/>
          <p:nvPr/>
        </p:nvPicPr>
        <p:blipFill>
          <a:blip r:embed="rId1"/>
          <a:stretch/>
        </p:blipFill>
        <p:spPr>
          <a:xfrm>
            <a:off x="4343400" y="304920"/>
            <a:ext cx="4518000" cy="61722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"/>
          <p:cNvSpPr/>
          <p:nvPr/>
        </p:nvSpPr>
        <p:spPr>
          <a:xfrm>
            <a:off x="164520" y="2743200"/>
            <a:ext cx="3181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Harlow Solid Italic"/>
              </a:rPr>
              <a:t>A. moo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4231800" y="182880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3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www.ucdavis.edu/images/features_level2/0208/cat1.jpg"/>
          <p:cNvPicPr/>
          <p:nvPr/>
        </p:nvPicPr>
        <p:blipFill>
          <a:blip r:embed="rId1"/>
          <a:stretch/>
        </p:blipFill>
        <p:spPr>
          <a:xfrm>
            <a:off x="-76320" y="4191120"/>
            <a:ext cx="2895840" cy="2895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marcdeckter.com/blog/2008/06_June/AFLAC/aflac_duck_2.jpg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0" y="2590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 u="sng">
                <a:solidFill>
                  <a:srgbClr val="000000"/>
                </a:solidFill>
                <a:uFillTx/>
                <a:latin typeface="Comic Sans MS"/>
              </a:rPr>
              <a:t>Animal</a:t>
            </a:r>
            <a:r>
              <a:rPr b="0" lang="en-US" sz="10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0800" spc="-1" strike="noStrike" u="sng">
                <a:solidFill>
                  <a:srgbClr val="000000"/>
                </a:solidFill>
                <a:uFillTx/>
                <a:latin typeface="Comic Sans MS"/>
              </a:rPr>
              <a:t>Noises</a:t>
            </a:r>
            <a:endParaRPr b="0" lang="en-US" sz="10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www.mydogneeds.com/dog-groups/herding-dogs/german-shepherd-dog.jpg"/>
          <p:cNvPicPr/>
          <p:nvPr/>
        </p:nvPicPr>
        <p:blipFill>
          <a:blip r:embed="rId1"/>
          <a:stretch/>
        </p:blipFill>
        <p:spPr>
          <a:xfrm>
            <a:off x="0" y="0"/>
            <a:ext cx="441972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0" y="403848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Rectangle 4"/>
          <p:cNvSpPr/>
          <p:nvPr/>
        </p:nvSpPr>
        <p:spPr>
          <a:xfrm rot="16200000">
            <a:off x="3314520" y="5448240"/>
            <a:ext cx="2743200" cy="75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556272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456840" y="5749920"/>
            <a:ext cx="315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C. bark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5018400" y="4267080"/>
            <a:ext cx="3589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roadway"/>
              </a:rPr>
              <a:t>B. meow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-18000" y="4267080"/>
            <a:ext cx="491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Harlow Solid Italic"/>
              </a:rPr>
              <a:t>A. Bow wow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TextBox 10"/>
          <p:cNvSpPr/>
          <p:nvPr/>
        </p:nvSpPr>
        <p:spPr>
          <a:xfrm>
            <a:off x="4904640" y="5749920"/>
            <a:ext cx="319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Jokerman"/>
              </a:rPr>
              <a:t>D. woof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Rectangular Callout 14"/>
          <p:cNvSpPr/>
          <p:nvPr/>
        </p:nvSpPr>
        <p:spPr>
          <a:xfrm>
            <a:off x="4267080" y="533520"/>
            <a:ext cx="4876920" cy="2895480"/>
          </a:xfrm>
          <a:prstGeom prst="wedgeRectCallout">
            <a:avLst>
              <a:gd name="adj1" fmla="val -55185"/>
              <a:gd name="adj2" fmla="val -23412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WHAT DO I SAY?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http://www.mydogneeds.com/dog-groups/herding-dogs/german-shepherd-dog.jpg"/>
          <p:cNvPicPr/>
          <p:nvPr/>
        </p:nvPicPr>
        <p:blipFill>
          <a:blip r:embed="rId1"/>
          <a:stretch/>
        </p:blipFill>
        <p:spPr>
          <a:xfrm>
            <a:off x="0" y="0"/>
            <a:ext cx="38098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ular Callout 4"/>
          <p:cNvSpPr/>
          <p:nvPr/>
        </p:nvSpPr>
        <p:spPr>
          <a:xfrm>
            <a:off x="4038480" y="228600"/>
            <a:ext cx="4876920" cy="6400800"/>
          </a:xfrm>
          <a:prstGeom prst="wedgeRectCallout">
            <a:avLst>
              <a:gd name="adj1" fmla="val -60148"/>
              <a:gd name="adj2" fmla="val -14587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4381200" y="5029200"/>
            <a:ext cx="419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Jokerman"/>
              </a:rPr>
              <a:t>D. woof</a:t>
            </a:r>
            <a:endParaRPr b="0" lang="en-US" sz="8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3776400" y="533520"/>
            <a:ext cx="534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arlow Solid Italic"/>
              </a:rPr>
              <a:t>A. Bow wow</a:t>
            </a:r>
            <a:endParaRPr b="0" lang="en-US" sz="7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5945400" y="1600200"/>
            <a:ext cx="103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4876560" y="2666880"/>
            <a:ext cx="315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C. bark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6021720" y="4038480"/>
            <a:ext cx="103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3"/>
          <p:cNvSpPr/>
          <p:nvPr/>
        </p:nvSpPr>
        <p:spPr>
          <a:xfrm>
            <a:off x="4231800" y="182880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3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ttp://dclips.fundraw.com/zobo500dir/creohn_Sheep_in_gray.jpg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40384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3"/>
          <p:cNvSpPr/>
          <p:nvPr/>
        </p:nvSpPr>
        <p:spPr>
          <a:xfrm>
            <a:off x="0" y="403848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1" name="Rectangle 4"/>
          <p:cNvSpPr/>
          <p:nvPr/>
        </p:nvSpPr>
        <p:spPr>
          <a:xfrm rot="16200000">
            <a:off x="3314520" y="5448240"/>
            <a:ext cx="2743200" cy="75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0" y="556272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358200" y="5749920"/>
            <a:ext cx="3393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C. neigh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5310720" y="4267080"/>
            <a:ext cx="309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roadway"/>
              </a:rPr>
              <a:t>B. daaa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464040" y="4267080"/>
            <a:ext cx="308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Harlow Solid Italic"/>
              </a:rPr>
              <a:t>A. naaa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6" name="TextBox 10"/>
          <p:cNvSpPr/>
          <p:nvPr/>
        </p:nvSpPr>
        <p:spPr>
          <a:xfrm>
            <a:off x="5162760" y="5749920"/>
            <a:ext cx="3163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Jokerman"/>
              </a:rPr>
              <a:t>D. baaa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7" name="Rectangular Callout 14"/>
          <p:cNvSpPr/>
          <p:nvPr/>
        </p:nvSpPr>
        <p:spPr>
          <a:xfrm>
            <a:off x="228600" y="457200"/>
            <a:ext cx="4267080" cy="2895480"/>
          </a:xfrm>
          <a:prstGeom prst="wedgeRectCallout">
            <a:avLst>
              <a:gd name="adj1" fmla="val 58453"/>
              <a:gd name="adj2" fmla="val -10412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How do I speak?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http://dclips.fundraw.com/zobo500dir/creohn_Sheep_in_gray.jpg"/>
          <p:cNvPicPr/>
          <p:nvPr/>
        </p:nvPicPr>
        <p:blipFill>
          <a:blip r:embed="rId1"/>
          <a:stretch/>
        </p:blipFill>
        <p:spPr>
          <a:xfrm>
            <a:off x="4964040" y="1219320"/>
            <a:ext cx="4179960" cy="3886200"/>
          </a:xfrm>
          <a:prstGeom prst="rect">
            <a:avLst/>
          </a:prstGeom>
          <a:ln w="0">
            <a:noFill/>
          </a:ln>
        </p:spPr>
      </p:pic>
      <p:sp>
        <p:nvSpPr>
          <p:cNvPr id="139" name="Rectangular Callout 4"/>
          <p:cNvSpPr/>
          <p:nvPr/>
        </p:nvSpPr>
        <p:spPr>
          <a:xfrm>
            <a:off x="152280" y="2819520"/>
            <a:ext cx="4876920" cy="2895480"/>
          </a:xfrm>
          <a:prstGeom prst="wedgeRectCallout">
            <a:avLst>
              <a:gd name="adj1" fmla="val 56763"/>
              <a:gd name="adj2" fmla="val -32236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304920" y="3505320"/>
            <a:ext cx="489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Jokerman"/>
              </a:rPr>
              <a:t>D. baaa</a:t>
            </a:r>
            <a:endParaRPr b="0" lang="en-US" sz="9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3"/>
          <p:cNvSpPr/>
          <p:nvPr/>
        </p:nvSpPr>
        <p:spPr>
          <a:xfrm>
            <a:off x="4231800" y="182880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3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http://www.letmecolor.com/wp-content/uploads/2007/09/horse_coloring_page_12133.gif"/>
          <p:cNvPicPr/>
          <p:nvPr/>
        </p:nvPicPr>
        <p:blipFill>
          <a:blip r:embed="rId1"/>
          <a:stretch/>
        </p:blipFill>
        <p:spPr>
          <a:xfrm>
            <a:off x="-457200" y="-152280"/>
            <a:ext cx="5079960" cy="50292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0" y="403848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Rectangle 4"/>
          <p:cNvSpPr/>
          <p:nvPr/>
        </p:nvSpPr>
        <p:spPr>
          <a:xfrm rot="16200000">
            <a:off x="3314520" y="5448240"/>
            <a:ext cx="2743200" cy="75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556272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548280" y="5749920"/>
            <a:ext cx="2762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C. rrrr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5095440" y="4267080"/>
            <a:ext cx="3634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roadway"/>
              </a:rPr>
              <a:t>B. neigh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303480" y="4267080"/>
            <a:ext cx="3271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Harlow Solid Italic"/>
              </a:rPr>
              <a:t>A. veen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TextBox 10"/>
          <p:cNvSpPr/>
          <p:nvPr/>
        </p:nvSpPr>
        <p:spPr>
          <a:xfrm>
            <a:off x="4848480" y="5791320"/>
            <a:ext cx="430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Jokerman"/>
              </a:rPr>
              <a:t>D. Bow wow!</a:t>
            </a: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Rectangular Callout 14"/>
          <p:cNvSpPr/>
          <p:nvPr/>
        </p:nvSpPr>
        <p:spPr>
          <a:xfrm>
            <a:off x="3962520" y="380880"/>
            <a:ext cx="4876560" cy="2895840"/>
          </a:xfrm>
          <a:prstGeom prst="wedgeRectCallout">
            <a:avLst>
              <a:gd name="adj1" fmla="val -56564"/>
              <a:gd name="adj2" fmla="val -14587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How do I say hello?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www.letmecolor.com/wp-content/uploads/2007/09/horse_coloring_page_12133.gif"/>
          <p:cNvPicPr/>
          <p:nvPr/>
        </p:nvPicPr>
        <p:blipFill>
          <a:blip r:embed="rId1"/>
          <a:stretch/>
        </p:blipFill>
        <p:spPr>
          <a:xfrm>
            <a:off x="-228600" y="2666880"/>
            <a:ext cx="5079960" cy="5029200"/>
          </a:xfrm>
          <a:prstGeom prst="rect">
            <a:avLst/>
          </a:prstGeom>
          <a:ln w="0">
            <a:noFill/>
          </a:ln>
        </p:spPr>
      </p:pic>
      <p:sp>
        <p:nvSpPr>
          <p:cNvPr id="152" name="Rectangular Callout 4"/>
          <p:cNvSpPr/>
          <p:nvPr/>
        </p:nvSpPr>
        <p:spPr>
          <a:xfrm>
            <a:off x="4114800" y="838080"/>
            <a:ext cx="4876920" cy="2895840"/>
          </a:xfrm>
          <a:prstGeom prst="wedgeRectCallout">
            <a:avLst>
              <a:gd name="adj1" fmla="val -56837"/>
              <a:gd name="adj2" fmla="val 65750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4423680" y="1600200"/>
            <a:ext cx="436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roadway"/>
              </a:rPr>
              <a:t>B. neigh!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3"/>
          <p:cNvSpPr/>
          <p:nvPr/>
        </p:nvSpPr>
        <p:spPr>
          <a:xfrm>
            <a:off x="4231800" y="182880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3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http://gujoron.com/xe/files/attach/images/161/774/133/cobra-snake-plastic-f450.jpg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41720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0" y="403848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Rectangle 4"/>
          <p:cNvSpPr/>
          <p:nvPr/>
        </p:nvSpPr>
        <p:spPr>
          <a:xfrm rot="16200000">
            <a:off x="3314520" y="5448240"/>
            <a:ext cx="2743200" cy="75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556272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456480" y="5749920"/>
            <a:ext cx="306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C. oink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4945320" y="4267080"/>
            <a:ext cx="3398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roadway"/>
              </a:rPr>
              <a:t>B. sssss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216360" y="4343400"/>
            <a:ext cx="2751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Harlow Solid Italic"/>
              </a:rPr>
              <a:t>A. tisk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4935960" y="5749920"/>
            <a:ext cx="405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Jokerman"/>
              </a:rPr>
              <a:t>D. nnnnn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3" name="Rectangular Callout 14"/>
          <p:cNvSpPr/>
          <p:nvPr/>
        </p:nvSpPr>
        <p:spPr>
          <a:xfrm>
            <a:off x="228600" y="152280"/>
            <a:ext cx="4267080" cy="2210040"/>
          </a:xfrm>
          <a:prstGeom prst="wedgeRectCallout">
            <a:avLst>
              <a:gd name="adj1" fmla="val 62550"/>
              <a:gd name="adj2" fmla="val -28055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How do I talk?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0" y="0"/>
            <a:ext cx="9144000" cy="64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omic Sans MS"/>
              </a:rPr>
              <a:t>Round 1:</a:t>
            </a:r>
            <a:endParaRPr b="0" lang="en-US" sz="138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omic Sans MS"/>
              </a:rPr>
              <a:t>Multiple Choice</a:t>
            </a:r>
            <a:endParaRPr b="0" lang="en-US" sz="13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http://gujoron.com/xe/files/attach/images/161/774/133/cobra-snake-plastic-f450.jpg"/>
          <p:cNvPicPr/>
          <p:nvPr/>
        </p:nvPicPr>
        <p:blipFill>
          <a:blip r:embed="rId1"/>
          <a:stretch/>
        </p:blipFill>
        <p:spPr>
          <a:xfrm>
            <a:off x="3657600" y="609480"/>
            <a:ext cx="5181480" cy="5924520"/>
          </a:xfrm>
          <a:prstGeom prst="rect">
            <a:avLst/>
          </a:prstGeom>
          <a:ln w="0">
            <a:noFill/>
          </a:ln>
        </p:spPr>
      </p:pic>
      <p:sp>
        <p:nvSpPr>
          <p:cNvPr id="165" name="Rectangular Callout 4"/>
          <p:cNvSpPr/>
          <p:nvPr/>
        </p:nvSpPr>
        <p:spPr>
          <a:xfrm>
            <a:off x="228600" y="990720"/>
            <a:ext cx="4876920" cy="2895480"/>
          </a:xfrm>
          <a:prstGeom prst="wedgeRectCallout">
            <a:avLst>
              <a:gd name="adj1" fmla="val 62550"/>
              <a:gd name="adj2" fmla="val -28055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417960" y="1676520"/>
            <a:ext cx="4470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Broadway"/>
              </a:rPr>
              <a:t>B. sssss!</a:t>
            </a:r>
            <a:endParaRPr b="0" lang="en-US" sz="8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3"/>
          <p:cNvSpPr/>
          <p:nvPr/>
        </p:nvSpPr>
        <p:spPr>
          <a:xfrm>
            <a:off x="4119480" y="182880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3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http://marcdeckter.com/blog/2008/06_June/AFLAC/aflac_duck_2.jpg"/>
          <p:cNvPicPr/>
          <p:nvPr/>
        </p:nvPicPr>
        <p:blipFill>
          <a:blip r:embed="rId1"/>
          <a:stretch/>
        </p:blipFill>
        <p:spPr>
          <a:xfrm>
            <a:off x="5105520" y="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3"/>
          <p:cNvSpPr/>
          <p:nvPr/>
        </p:nvSpPr>
        <p:spPr>
          <a:xfrm>
            <a:off x="0" y="403848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Rectangle 4"/>
          <p:cNvSpPr/>
          <p:nvPr/>
        </p:nvSpPr>
        <p:spPr>
          <a:xfrm rot="16200000">
            <a:off x="3314520" y="5448240"/>
            <a:ext cx="2743200" cy="75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556272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534960" y="5749920"/>
            <a:ext cx="2994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C. keek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5439960" y="4267080"/>
            <a:ext cx="2964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roadway"/>
              </a:rPr>
              <a:t>B. yuck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594360" y="4267080"/>
            <a:ext cx="351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Harlow Solid Italic"/>
              </a:rPr>
              <a:t>A. quack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TextBox 10"/>
          <p:cNvSpPr/>
          <p:nvPr/>
        </p:nvSpPr>
        <p:spPr>
          <a:xfrm>
            <a:off x="5169600" y="5749920"/>
            <a:ext cx="306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Jokerman"/>
              </a:rPr>
              <a:t>D. acko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Rectangular Callout 14"/>
          <p:cNvSpPr/>
          <p:nvPr/>
        </p:nvSpPr>
        <p:spPr>
          <a:xfrm>
            <a:off x="838080" y="380880"/>
            <a:ext cx="4876920" cy="2895840"/>
          </a:xfrm>
          <a:prstGeom prst="wedgeRectCallout">
            <a:avLst>
              <a:gd name="adj1" fmla="val 62550"/>
              <a:gd name="adj2" fmla="val -28055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WHAT DO I SAY?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http://marcdeckter.com/blog/2008/06_June/AFLAC/aflac_duck_2.jpg"/>
          <p:cNvPicPr/>
          <p:nvPr/>
        </p:nvPicPr>
        <p:blipFill>
          <a:blip r:embed="rId1"/>
          <a:stretch/>
        </p:blipFill>
        <p:spPr>
          <a:xfrm>
            <a:off x="3886200" y="152280"/>
            <a:ext cx="6477120" cy="6477120"/>
          </a:xfrm>
          <a:prstGeom prst="rect">
            <a:avLst/>
          </a:prstGeom>
          <a:ln w="0">
            <a:noFill/>
          </a:ln>
        </p:spPr>
      </p:pic>
      <p:sp>
        <p:nvSpPr>
          <p:cNvPr id="178" name="Rectangular Callout 4"/>
          <p:cNvSpPr/>
          <p:nvPr/>
        </p:nvSpPr>
        <p:spPr>
          <a:xfrm>
            <a:off x="457200" y="990720"/>
            <a:ext cx="4876920" cy="2895480"/>
          </a:xfrm>
          <a:prstGeom prst="wedgeRectCallout">
            <a:avLst>
              <a:gd name="adj1" fmla="val 62550"/>
              <a:gd name="adj2" fmla="val -28055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399600" y="1600200"/>
            <a:ext cx="502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arlow Solid Italic"/>
              </a:rPr>
              <a:t>A. quack</a:t>
            </a:r>
            <a:endParaRPr b="0" lang="en-US" sz="9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3"/>
          <p:cNvSpPr/>
          <p:nvPr/>
        </p:nvSpPr>
        <p:spPr>
          <a:xfrm>
            <a:off x="3979080" y="182880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3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867280" y="380880"/>
            <a:ext cx="3019680" cy="29340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3"/>
          <p:cNvSpPr/>
          <p:nvPr/>
        </p:nvSpPr>
        <p:spPr>
          <a:xfrm>
            <a:off x="0" y="403848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3" name="Rectangle 4"/>
          <p:cNvSpPr/>
          <p:nvPr/>
        </p:nvSpPr>
        <p:spPr>
          <a:xfrm rot="16200000">
            <a:off x="3314520" y="5448240"/>
            <a:ext cx="2743200" cy="75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556272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442440" y="5749920"/>
            <a:ext cx="3350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C. gilgul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5356440" y="4267080"/>
            <a:ext cx="2858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roadway"/>
              </a:rPr>
              <a:t>B. oink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TextBox 9"/>
          <p:cNvSpPr/>
          <p:nvPr/>
        </p:nvSpPr>
        <p:spPr>
          <a:xfrm>
            <a:off x="752400" y="4267080"/>
            <a:ext cx="3100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Harlow Solid Italic"/>
              </a:rPr>
              <a:t>A. rribit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8" name="TextBox 10"/>
          <p:cNvSpPr/>
          <p:nvPr/>
        </p:nvSpPr>
        <p:spPr>
          <a:xfrm>
            <a:off x="5267520" y="5749920"/>
            <a:ext cx="2745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Jokerman"/>
              </a:rPr>
              <a:t>D. errr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Rectangular Callout 14"/>
          <p:cNvSpPr/>
          <p:nvPr/>
        </p:nvSpPr>
        <p:spPr>
          <a:xfrm>
            <a:off x="838080" y="380880"/>
            <a:ext cx="4876920" cy="2895840"/>
          </a:xfrm>
          <a:prstGeom prst="wedgeRectCallout">
            <a:avLst>
              <a:gd name="adj1" fmla="val 62550"/>
              <a:gd name="adj2" fmla="val -28055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WHAT DO I SAY?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562720" y="380880"/>
            <a:ext cx="3324240" cy="4419720"/>
          </a:xfrm>
          <a:prstGeom prst="rect">
            <a:avLst/>
          </a:prstGeom>
          <a:ln w="0">
            <a:noFill/>
          </a:ln>
        </p:spPr>
      </p:pic>
      <p:sp>
        <p:nvSpPr>
          <p:cNvPr id="191" name="Rectangular Callout 4"/>
          <p:cNvSpPr/>
          <p:nvPr/>
        </p:nvSpPr>
        <p:spPr>
          <a:xfrm>
            <a:off x="457200" y="990720"/>
            <a:ext cx="4876920" cy="2895480"/>
          </a:xfrm>
          <a:prstGeom prst="wedgeRectCallout">
            <a:avLst>
              <a:gd name="adj1" fmla="val 62550"/>
              <a:gd name="adj2" fmla="val -28055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TextBox 5"/>
          <p:cNvSpPr/>
          <p:nvPr/>
        </p:nvSpPr>
        <p:spPr>
          <a:xfrm>
            <a:off x="630000" y="1600200"/>
            <a:ext cx="442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arlow Solid Italic"/>
              </a:rPr>
              <a:t>A. rribit</a:t>
            </a:r>
            <a:endParaRPr b="0" lang="en-US" sz="9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3"/>
          <p:cNvSpPr/>
          <p:nvPr/>
        </p:nvSpPr>
        <p:spPr>
          <a:xfrm>
            <a:off x="0" y="0"/>
            <a:ext cx="9144000" cy="64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omic Sans MS"/>
              </a:rPr>
              <a:t>Round 2:</a:t>
            </a:r>
            <a:endParaRPr b="0" lang="en-US" sz="138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omic Sans MS"/>
              </a:rPr>
              <a:t>SPEED GAME</a:t>
            </a:r>
            <a:endParaRPr b="0" lang="en-US" sz="13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http://www.eslpod.com/eslpod_blog/wp-content/uploads/2008/05/pig-thumb.jpg"/>
          <p:cNvPicPr/>
          <p:nvPr/>
        </p:nvPicPr>
        <p:blipFill>
          <a:blip r:embed="rId1"/>
          <a:stretch/>
        </p:blipFill>
        <p:spPr>
          <a:xfrm>
            <a:off x="0" y="0"/>
            <a:ext cx="47592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Rectangular Callout 4"/>
          <p:cNvSpPr/>
          <p:nvPr/>
        </p:nvSpPr>
        <p:spPr>
          <a:xfrm>
            <a:off x="5105520" y="1295280"/>
            <a:ext cx="3733560" cy="2895840"/>
          </a:xfrm>
          <a:prstGeom prst="wedgeRectCallout">
            <a:avLst>
              <a:gd name="adj1" fmla="val -69532"/>
              <a:gd name="adj2" fmla="val 25347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TextBox 6"/>
          <p:cNvSpPr/>
          <p:nvPr/>
        </p:nvSpPr>
        <p:spPr>
          <a:xfrm>
            <a:off x="5051880" y="2133720"/>
            <a:ext cx="331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oink!</a:t>
            </a:r>
            <a:endParaRPr b="0" lang="en-US" sz="8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http://mrana.typepad.com/bitbybit/images/2007/11/18/171rooster_3.jpg"/>
          <p:cNvPicPr/>
          <p:nvPr/>
        </p:nvPicPr>
        <p:blipFill>
          <a:blip r:embed="rId1"/>
          <a:stretch/>
        </p:blipFill>
        <p:spPr>
          <a:xfrm>
            <a:off x="5410080" y="0"/>
            <a:ext cx="373392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Rectangular Callout 4"/>
          <p:cNvSpPr/>
          <p:nvPr/>
        </p:nvSpPr>
        <p:spPr>
          <a:xfrm>
            <a:off x="152280" y="990720"/>
            <a:ext cx="4876920" cy="2895480"/>
          </a:xfrm>
          <a:prstGeom prst="wedgeRectCallout">
            <a:avLst>
              <a:gd name="adj1" fmla="val 60347"/>
              <a:gd name="adj2" fmla="val -25736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152280" y="990720"/>
            <a:ext cx="4876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Harlow Solid Italic"/>
              </a:rPr>
              <a:t>cockle-doodle-do!</a:t>
            </a:r>
            <a:endParaRPr b="0" lang="en-US" sz="8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3"/>
          <p:cNvSpPr/>
          <p:nvPr/>
        </p:nvSpPr>
        <p:spPr>
          <a:xfrm>
            <a:off x="4089960" y="182880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3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http://www.ucdavis.edu/images/features_level2/0208/cat1.jpg"/>
          <p:cNvPicPr/>
          <p:nvPr/>
        </p:nvPicPr>
        <p:blipFill>
          <a:blip r:embed="rId1"/>
          <a:stretch/>
        </p:blipFill>
        <p:spPr>
          <a:xfrm>
            <a:off x="0" y="0"/>
            <a:ext cx="426708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Rectangular Callout 4"/>
          <p:cNvSpPr/>
          <p:nvPr/>
        </p:nvSpPr>
        <p:spPr>
          <a:xfrm>
            <a:off x="3962520" y="685800"/>
            <a:ext cx="4876560" cy="2895480"/>
          </a:xfrm>
          <a:prstGeom prst="wedgeRectCallout">
            <a:avLst>
              <a:gd name="adj1" fmla="val -62907"/>
              <a:gd name="adj2" fmla="val 40208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3896280" y="1371600"/>
            <a:ext cx="465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meow</a:t>
            </a:r>
            <a:endParaRPr b="0" lang="en-US" sz="9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ular Callout 4"/>
          <p:cNvSpPr/>
          <p:nvPr/>
        </p:nvSpPr>
        <p:spPr>
          <a:xfrm>
            <a:off x="3657600" y="228600"/>
            <a:ext cx="5257800" cy="3733920"/>
          </a:xfrm>
          <a:prstGeom prst="wedgeRectCallout">
            <a:avLst>
              <a:gd name="adj1" fmla="val -57666"/>
              <a:gd name="adj2" fmla="val 41601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04" name="Picture 2" descr="http://kikolani.com/wp-content/uploads/2009/02/bird.jpg"/>
          <p:cNvPicPr/>
          <p:nvPr/>
        </p:nvPicPr>
        <p:blipFill>
          <a:blip r:embed="rId1"/>
          <a:stretch/>
        </p:blipFill>
        <p:spPr>
          <a:xfrm>
            <a:off x="0" y="3735360"/>
            <a:ext cx="3505320" cy="3122640"/>
          </a:xfrm>
          <a:prstGeom prst="rect">
            <a:avLst/>
          </a:prstGeom>
          <a:ln w="0">
            <a:noFill/>
          </a:ln>
        </p:spPr>
      </p:pic>
      <p:sp>
        <p:nvSpPr>
          <p:cNvPr id="205" name="TextBox 6"/>
          <p:cNvSpPr/>
          <p:nvPr/>
        </p:nvSpPr>
        <p:spPr>
          <a:xfrm>
            <a:off x="3657600" y="144792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roadway"/>
              </a:rPr>
              <a:t>   </a:t>
            </a:r>
            <a:r>
              <a:rPr b="0" lang="en-US" sz="8000" spc="-1" strike="noStrike">
                <a:solidFill>
                  <a:srgbClr val="000000"/>
                </a:solidFill>
                <a:latin typeface="Broadway"/>
              </a:rPr>
              <a:t>chirp!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ular Callout 4"/>
          <p:cNvSpPr/>
          <p:nvPr/>
        </p:nvSpPr>
        <p:spPr>
          <a:xfrm>
            <a:off x="228600" y="1828800"/>
            <a:ext cx="3048120" cy="2895480"/>
          </a:xfrm>
          <a:prstGeom prst="wedgeRectCallout">
            <a:avLst>
              <a:gd name="adj1" fmla="val 77662"/>
              <a:gd name="adj2" fmla="val 32314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07" name="Picture 2" descr="http://www.mygtv.net/wp-content/uploads/2009/02/happy_cow_large.jpg"/>
          <p:cNvPicPr/>
          <p:nvPr/>
        </p:nvPicPr>
        <p:blipFill>
          <a:blip r:embed="rId1"/>
          <a:stretch/>
        </p:blipFill>
        <p:spPr>
          <a:xfrm>
            <a:off x="4343400" y="304920"/>
            <a:ext cx="4518000" cy="61722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6"/>
          <p:cNvSpPr/>
          <p:nvPr/>
        </p:nvSpPr>
        <p:spPr>
          <a:xfrm>
            <a:off x="677520" y="2743200"/>
            <a:ext cx="2204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Harlow Solid Italic"/>
              </a:rPr>
              <a:t>moo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http://www.mydogneeds.com/dog-groups/herding-dogs/german-shepherd-dog.jpg"/>
          <p:cNvPicPr/>
          <p:nvPr/>
        </p:nvPicPr>
        <p:blipFill>
          <a:blip r:embed="rId1"/>
          <a:stretch/>
        </p:blipFill>
        <p:spPr>
          <a:xfrm>
            <a:off x="0" y="0"/>
            <a:ext cx="380988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Rectangular Callout 4"/>
          <p:cNvSpPr/>
          <p:nvPr/>
        </p:nvSpPr>
        <p:spPr>
          <a:xfrm>
            <a:off x="4114800" y="762120"/>
            <a:ext cx="4876920" cy="2666880"/>
          </a:xfrm>
          <a:prstGeom prst="wedgeRectCallout">
            <a:avLst>
              <a:gd name="adj1" fmla="val -61717"/>
              <a:gd name="adj2" fmla="val 15000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4606920" y="1371600"/>
            <a:ext cx="264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arlow Solid Italic"/>
              </a:rPr>
              <a:t>Bark!!</a:t>
            </a:r>
            <a:endParaRPr b="0" lang="en-US" sz="7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http://dclips.fundraw.com/zobo500dir/creohn_Sheep_in_gray.jpg"/>
          <p:cNvPicPr/>
          <p:nvPr/>
        </p:nvPicPr>
        <p:blipFill>
          <a:blip r:embed="rId1"/>
          <a:stretch/>
        </p:blipFill>
        <p:spPr>
          <a:xfrm>
            <a:off x="4964040" y="1219320"/>
            <a:ext cx="4179960" cy="3886200"/>
          </a:xfrm>
          <a:prstGeom prst="rect">
            <a:avLst/>
          </a:prstGeom>
          <a:ln w="0">
            <a:noFill/>
          </a:ln>
        </p:spPr>
      </p:pic>
      <p:sp>
        <p:nvSpPr>
          <p:cNvPr id="213" name="Rectangular Callout 4"/>
          <p:cNvSpPr/>
          <p:nvPr/>
        </p:nvSpPr>
        <p:spPr>
          <a:xfrm>
            <a:off x="152280" y="2819520"/>
            <a:ext cx="4876920" cy="2895480"/>
          </a:xfrm>
          <a:prstGeom prst="wedgeRectCallout">
            <a:avLst>
              <a:gd name="adj1" fmla="val 56763"/>
              <a:gd name="adj2" fmla="val -32236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4" name="TextBox 6"/>
          <p:cNvSpPr/>
          <p:nvPr/>
        </p:nvSpPr>
        <p:spPr>
          <a:xfrm>
            <a:off x="762120" y="3505320"/>
            <a:ext cx="489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Jokerman"/>
              </a:rPr>
              <a:t>baaa</a:t>
            </a:r>
            <a:endParaRPr b="0" lang="en-US" sz="9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http://www.letmecolor.com/wp-content/uploads/2007/09/horse_coloring_page_12133.gif"/>
          <p:cNvPicPr/>
          <p:nvPr/>
        </p:nvPicPr>
        <p:blipFill>
          <a:blip r:embed="rId1"/>
          <a:stretch/>
        </p:blipFill>
        <p:spPr>
          <a:xfrm>
            <a:off x="-228600" y="2666880"/>
            <a:ext cx="5079960" cy="5029200"/>
          </a:xfrm>
          <a:prstGeom prst="rect">
            <a:avLst/>
          </a:prstGeom>
          <a:ln w="0">
            <a:noFill/>
          </a:ln>
        </p:spPr>
      </p:pic>
      <p:sp>
        <p:nvSpPr>
          <p:cNvPr id="216" name="Rectangular Callout 4"/>
          <p:cNvSpPr/>
          <p:nvPr/>
        </p:nvSpPr>
        <p:spPr>
          <a:xfrm>
            <a:off x="4114800" y="838080"/>
            <a:ext cx="4876920" cy="2895840"/>
          </a:xfrm>
          <a:prstGeom prst="wedgeRectCallout">
            <a:avLst>
              <a:gd name="adj1" fmla="val -56837"/>
              <a:gd name="adj2" fmla="val 65750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TextBox 6"/>
          <p:cNvSpPr/>
          <p:nvPr/>
        </p:nvSpPr>
        <p:spPr>
          <a:xfrm>
            <a:off x="5123160" y="1600200"/>
            <a:ext cx="316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roadway"/>
              </a:rPr>
              <a:t>neigh!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http://gujoron.com/xe/files/attach/images/161/774/133/cobra-snake-plastic-f450.jpg"/>
          <p:cNvPicPr/>
          <p:nvPr/>
        </p:nvPicPr>
        <p:blipFill>
          <a:blip r:embed="rId1"/>
          <a:stretch/>
        </p:blipFill>
        <p:spPr>
          <a:xfrm>
            <a:off x="3657600" y="609480"/>
            <a:ext cx="5181480" cy="5924520"/>
          </a:xfrm>
          <a:prstGeom prst="rect">
            <a:avLst/>
          </a:prstGeom>
          <a:ln w="0">
            <a:noFill/>
          </a:ln>
        </p:spPr>
      </p:pic>
      <p:sp>
        <p:nvSpPr>
          <p:cNvPr id="219" name="Rectangular Callout 4"/>
          <p:cNvSpPr/>
          <p:nvPr/>
        </p:nvSpPr>
        <p:spPr>
          <a:xfrm>
            <a:off x="228600" y="990720"/>
            <a:ext cx="4876920" cy="2895480"/>
          </a:xfrm>
          <a:prstGeom prst="wedgeRectCallout">
            <a:avLst>
              <a:gd name="adj1" fmla="val 62550"/>
              <a:gd name="adj2" fmla="val -28055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290880" y="1676520"/>
            <a:ext cx="3737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Broadway"/>
              </a:rPr>
              <a:t>  </a:t>
            </a:r>
            <a:r>
              <a:rPr b="0" lang="en-US" sz="8800" spc="-1" strike="noStrike">
                <a:solidFill>
                  <a:srgbClr val="000000"/>
                </a:solidFill>
                <a:latin typeface="Broadway"/>
              </a:rPr>
              <a:t>sssss!</a:t>
            </a:r>
            <a:endParaRPr b="0" lang="en-US" sz="8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http://marcdeckter.com/blog/2008/06_June/AFLAC/aflac_duck_2.jpg"/>
          <p:cNvPicPr/>
          <p:nvPr/>
        </p:nvPicPr>
        <p:blipFill>
          <a:blip r:embed="rId1"/>
          <a:stretch/>
        </p:blipFill>
        <p:spPr>
          <a:xfrm>
            <a:off x="3886200" y="152280"/>
            <a:ext cx="6477120" cy="6477120"/>
          </a:xfrm>
          <a:prstGeom prst="rect">
            <a:avLst/>
          </a:prstGeom>
          <a:ln w="0">
            <a:noFill/>
          </a:ln>
        </p:spPr>
      </p:pic>
      <p:sp>
        <p:nvSpPr>
          <p:cNvPr id="222" name="Rectangular Callout 4"/>
          <p:cNvSpPr/>
          <p:nvPr/>
        </p:nvSpPr>
        <p:spPr>
          <a:xfrm>
            <a:off x="457200" y="990720"/>
            <a:ext cx="4876920" cy="2895480"/>
          </a:xfrm>
          <a:prstGeom prst="wedgeRectCallout">
            <a:avLst>
              <a:gd name="adj1" fmla="val 62550"/>
              <a:gd name="adj2" fmla="val -28055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1213920" y="1676520"/>
            <a:ext cx="360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arlow Solid Italic"/>
              </a:rPr>
              <a:t>quack</a:t>
            </a:r>
            <a:endParaRPr b="0" lang="en-US" sz="9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3"/>
          <p:cNvSpPr/>
          <p:nvPr/>
        </p:nvSpPr>
        <p:spPr>
          <a:xfrm>
            <a:off x="0" y="0"/>
            <a:ext cx="9144000" cy="64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omic Sans MS"/>
              </a:rPr>
              <a:t>Round 3:</a:t>
            </a:r>
            <a:endParaRPr b="0" lang="en-US" sz="138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omic Sans MS"/>
              </a:rPr>
              <a:t>Fill in the Blank</a:t>
            </a:r>
            <a:endParaRPr b="0" lang="en-US" sz="13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3"/>
          <p:cNvSpPr/>
          <p:nvPr/>
        </p:nvSpPr>
        <p:spPr>
          <a:xfrm>
            <a:off x="0" y="0"/>
            <a:ext cx="9144000" cy="64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omic Sans MS"/>
              </a:rPr>
              <a:t>A ______</a:t>
            </a:r>
            <a:endParaRPr b="0" lang="en-US" sz="138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omic Sans MS"/>
              </a:rPr>
              <a:t>says</a:t>
            </a:r>
            <a:endParaRPr b="0" lang="en-US" sz="138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omic Sans MS"/>
              </a:rPr>
              <a:t>______.</a:t>
            </a:r>
            <a:endParaRPr b="0" lang="en-US" sz="13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eslpod.com/eslpod_blog/wp-content/uploads/2008/05/pig-thumb.jpg"/>
          <p:cNvPicPr/>
          <p:nvPr/>
        </p:nvPicPr>
        <p:blipFill>
          <a:blip r:embed="rId1"/>
          <a:stretch/>
        </p:blipFill>
        <p:spPr>
          <a:xfrm>
            <a:off x="0" y="0"/>
            <a:ext cx="4525920" cy="40575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0" y="403848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Rectangle 4"/>
          <p:cNvSpPr/>
          <p:nvPr/>
        </p:nvSpPr>
        <p:spPr>
          <a:xfrm rot="16200000">
            <a:off x="3314520" y="5448240"/>
            <a:ext cx="2743200" cy="75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0" y="556272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470160" y="5749920"/>
            <a:ext cx="306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C. oink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5118120" y="4267080"/>
            <a:ext cx="280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roadway"/>
              </a:rPr>
              <a:t>B. aaa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228600" y="4267080"/>
            <a:ext cx="3633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Harlow Solid Italic"/>
              </a:rPr>
              <a:t>A. hello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4952880" y="5749920"/>
            <a:ext cx="3935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Jokerman"/>
              </a:rPr>
              <a:t>D. chirp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Rectangular Callout 14"/>
          <p:cNvSpPr/>
          <p:nvPr/>
        </p:nvSpPr>
        <p:spPr>
          <a:xfrm>
            <a:off x="4876920" y="304920"/>
            <a:ext cx="3962160" cy="2895480"/>
          </a:xfrm>
          <a:prstGeom prst="wedgeRectCallout">
            <a:avLst>
              <a:gd name="adj1" fmla="val -60148"/>
              <a:gd name="adj2" fmla="val -16912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How do I speak?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ction Button: Custom 10">
            <a:hlinkClick r:id="rId1"/>
          </p:cNvPr>
          <p:cNvSpPr/>
          <p:nvPr/>
        </p:nvSpPr>
        <p:spPr>
          <a:xfrm>
            <a:off x="152280" y="152280"/>
            <a:ext cx="2362320" cy="2057400"/>
          </a:xfrm>
          <a:custGeom>
            <a:avLst/>
            <a:gdLst>
              <a:gd name="textAreaLeft" fmla="*/ 133200 w 2362320"/>
              <a:gd name="textAreaRight" fmla="*/ 2229120 w 236232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24801" h="21600">
                <a:moveTo>
                  <a:pt x="0" y="0"/>
                </a:moveTo>
                <a:lnTo>
                  <a:pt x="24801" y="0"/>
                </a:lnTo>
                <a:lnTo>
                  <a:pt x="24801" y="21600"/>
                </a:lnTo>
                <a:lnTo>
                  <a:pt x="0" y="21600"/>
                </a:lnTo>
                <a:close/>
              </a:path>
              <a:path fill="lightenLess" w="24801" h="21600">
                <a:moveTo>
                  <a:pt x="0" y="0"/>
                </a:moveTo>
                <a:lnTo>
                  <a:pt x="24801" y="0"/>
                </a:lnTo>
                <a:lnTo>
                  <a:pt x="23401" y="1400"/>
                </a:lnTo>
                <a:lnTo>
                  <a:pt x="1400" y="1400"/>
                </a:lnTo>
                <a:close/>
              </a:path>
              <a:path fill="darken" w="24801" h="21600">
                <a:moveTo>
                  <a:pt x="24801" y="0"/>
                </a:moveTo>
                <a:lnTo>
                  <a:pt x="24801" y="21600"/>
                </a:lnTo>
                <a:lnTo>
                  <a:pt x="23401" y="20200"/>
                </a:lnTo>
                <a:lnTo>
                  <a:pt x="23401" y="1400"/>
                </a:lnTo>
                <a:close/>
              </a:path>
              <a:path fill="darkenLess" w="24801" h="21600">
                <a:moveTo>
                  <a:pt x="248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01" y="20200"/>
                </a:lnTo>
                <a:close/>
              </a:path>
              <a:path fill="lighten" w="248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맑은 고딕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Action Button: Custom 15">
            <a:hlinkClick r:id="rId3"/>
          </p:cNvPr>
          <p:cNvSpPr/>
          <p:nvPr/>
        </p:nvSpPr>
        <p:spPr>
          <a:xfrm>
            <a:off x="6629400" y="4648320"/>
            <a:ext cx="2362320" cy="2057400"/>
          </a:xfrm>
          <a:custGeom>
            <a:avLst/>
            <a:gdLst>
              <a:gd name="textAreaLeft" fmla="*/ 133200 w 2362320"/>
              <a:gd name="textAreaRight" fmla="*/ 2229120 w 236232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24801" h="21600">
                <a:moveTo>
                  <a:pt x="0" y="0"/>
                </a:moveTo>
                <a:lnTo>
                  <a:pt x="24801" y="0"/>
                </a:lnTo>
                <a:lnTo>
                  <a:pt x="24801" y="21600"/>
                </a:lnTo>
                <a:lnTo>
                  <a:pt x="0" y="21600"/>
                </a:lnTo>
                <a:close/>
              </a:path>
              <a:path fill="lightenLess" w="24801" h="21600">
                <a:moveTo>
                  <a:pt x="0" y="0"/>
                </a:moveTo>
                <a:lnTo>
                  <a:pt x="24801" y="0"/>
                </a:lnTo>
                <a:lnTo>
                  <a:pt x="23401" y="1400"/>
                </a:lnTo>
                <a:lnTo>
                  <a:pt x="1400" y="1400"/>
                </a:lnTo>
                <a:close/>
              </a:path>
              <a:path fill="darken" w="24801" h="21600">
                <a:moveTo>
                  <a:pt x="24801" y="0"/>
                </a:moveTo>
                <a:lnTo>
                  <a:pt x="24801" y="21600"/>
                </a:lnTo>
                <a:lnTo>
                  <a:pt x="23401" y="20200"/>
                </a:lnTo>
                <a:lnTo>
                  <a:pt x="23401" y="1400"/>
                </a:lnTo>
                <a:close/>
              </a:path>
              <a:path fill="darkenLess" w="24801" h="21600">
                <a:moveTo>
                  <a:pt x="248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01" y="20200"/>
                </a:lnTo>
                <a:close/>
              </a:path>
              <a:path fill="lighten" w="248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맑은 고딕"/>
              </a:rPr>
              <a:t>9</a:t>
            </a:r>
            <a:endParaRPr b="0" lang="en-US" sz="11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Action Button: Custom 16">
            <a:hlinkClick r:id="rId5"/>
          </p:cNvPr>
          <p:cNvSpPr/>
          <p:nvPr/>
        </p:nvSpPr>
        <p:spPr>
          <a:xfrm>
            <a:off x="3352680" y="2362320"/>
            <a:ext cx="2362320" cy="2057400"/>
          </a:xfrm>
          <a:custGeom>
            <a:avLst/>
            <a:gdLst>
              <a:gd name="textAreaLeft" fmla="*/ 133200 w 2362320"/>
              <a:gd name="textAreaRight" fmla="*/ 2229120 w 236232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24801" h="21600">
                <a:moveTo>
                  <a:pt x="0" y="0"/>
                </a:moveTo>
                <a:lnTo>
                  <a:pt x="24801" y="0"/>
                </a:lnTo>
                <a:lnTo>
                  <a:pt x="24801" y="21600"/>
                </a:lnTo>
                <a:lnTo>
                  <a:pt x="0" y="21600"/>
                </a:lnTo>
                <a:close/>
              </a:path>
              <a:path fill="lightenLess" w="24801" h="21600">
                <a:moveTo>
                  <a:pt x="0" y="0"/>
                </a:moveTo>
                <a:lnTo>
                  <a:pt x="24801" y="0"/>
                </a:lnTo>
                <a:lnTo>
                  <a:pt x="23401" y="1400"/>
                </a:lnTo>
                <a:lnTo>
                  <a:pt x="1400" y="1400"/>
                </a:lnTo>
                <a:close/>
              </a:path>
              <a:path fill="darken" w="24801" h="21600">
                <a:moveTo>
                  <a:pt x="24801" y="0"/>
                </a:moveTo>
                <a:lnTo>
                  <a:pt x="24801" y="21600"/>
                </a:lnTo>
                <a:lnTo>
                  <a:pt x="23401" y="20200"/>
                </a:lnTo>
                <a:lnTo>
                  <a:pt x="23401" y="1400"/>
                </a:lnTo>
                <a:close/>
              </a:path>
              <a:path fill="darkenLess" w="24801" h="21600">
                <a:moveTo>
                  <a:pt x="248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01" y="20200"/>
                </a:lnTo>
                <a:close/>
              </a:path>
              <a:path fill="lighten" w="248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맑은 고딕"/>
              </a:rPr>
              <a:t>5</a:t>
            </a:r>
            <a:endParaRPr b="0" lang="en-US" sz="11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9" name="Action Button: Custom 17">
            <a:hlinkClick r:id="rId7"/>
          </p:cNvPr>
          <p:cNvSpPr/>
          <p:nvPr/>
        </p:nvSpPr>
        <p:spPr>
          <a:xfrm>
            <a:off x="152280" y="4648320"/>
            <a:ext cx="2362320" cy="2057400"/>
          </a:xfrm>
          <a:custGeom>
            <a:avLst/>
            <a:gdLst>
              <a:gd name="textAreaLeft" fmla="*/ 133200 w 2362320"/>
              <a:gd name="textAreaRight" fmla="*/ 2229120 w 236232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24801" h="21600">
                <a:moveTo>
                  <a:pt x="0" y="0"/>
                </a:moveTo>
                <a:lnTo>
                  <a:pt x="24801" y="0"/>
                </a:lnTo>
                <a:lnTo>
                  <a:pt x="24801" y="21600"/>
                </a:lnTo>
                <a:lnTo>
                  <a:pt x="0" y="21600"/>
                </a:lnTo>
                <a:close/>
              </a:path>
              <a:path fill="lightenLess" w="24801" h="21600">
                <a:moveTo>
                  <a:pt x="0" y="0"/>
                </a:moveTo>
                <a:lnTo>
                  <a:pt x="24801" y="0"/>
                </a:lnTo>
                <a:lnTo>
                  <a:pt x="23401" y="1400"/>
                </a:lnTo>
                <a:lnTo>
                  <a:pt x="1400" y="1400"/>
                </a:lnTo>
                <a:close/>
              </a:path>
              <a:path fill="darken" w="24801" h="21600">
                <a:moveTo>
                  <a:pt x="24801" y="0"/>
                </a:moveTo>
                <a:lnTo>
                  <a:pt x="24801" y="21600"/>
                </a:lnTo>
                <a:lnTo>
                  <a:pt x="23401" y="20200"/>
                </a:lnTo>
                <a:lnTo>
                  <a:pt x="23401" y="1400"/>
                </a:lnTo>
                <a:close/>
              </a:path>
              <a:path fill="darkenLess" w="24801" h="21600">
                <a:moveTo>
                  <a:pt x="248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01" y="20200"/>
                </a:lnTo>
                <a:close/>
              </a:path>
              <a:path fill="lighten" w="248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맑은 고딕"/>
              </a:rPr>
              <a:t>7</a:t>
            </a:r>
            <a:endParaRPr b="0" lang="en-US" sz="11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Action Button: Custom 18">
            <a:hlinkClick r:id="rId9"/>
          </p:cNvPr>
          <p:cNvSpPr/>
          <p:nvPr/>
        </p:nvSpPr>
        <p:spPr>
          <a:xfrm>
            <a:off x="6629400" y="152280"/>
            <a:ext cx="2362320" cy="2057400"/>
          </a:xfrm>
          <a:custGeom>
            <a:avLst/>
            <a:gdLst>
              <a:gd name="textAreaLeft" fmla="*/ 133200 w 2362320"/>
              <a:gd name="textAreaRight" fmla="*/ 2229120 w 236232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24801" h="21600">
                <a:moveTo>
                  <a:pt x="0" y="0"/>
                </a:moveTo>
                <a:lnTo>
                  <a:pt x="24801" y="0"/>
                </a:lnTo>
                <a:lnTo>
                  <a:pt x="24801" y="21600"/>
                </a:lnTo>
                <a:lnTo>
                  <a:pt x="0" y="21600"/>
                </a:lnTo>
                <a:close/>
              </a:path>
              <a:path fill="lightenLess" w="24801" h="21600">
                <a:moveTo>
                  <a:pt x="0" y="0"/>
                </a:moveTo>
                <a:lnTo>
                  <a:pt x="24801" y="0"/>
                </a:lnTo>
                <a:lnTo>
                  <a:pt x="23401" y="1400"/>
                </a:lnTo>
                <a:lnTo>
                  <a:pt x="1400" y="1400"/>
                </a:lnTo>
                <a:close/>
              </a:path>
              <a:path fill="darken" w="24801" h="21600">
                <a:moveTo>
                  <a:pt x="24801" y="0"/>
                </a:moveTo>
                <a:lnTo>
                  <a:pt x="24801" y="21600"/>
                </a:lnTo>
                <a:lnTo>
                  <a:pt x="23401" y="20200"/>
                </a:lnTo>
                <a:lnTo>
                  <a:pt x="23401" y="1400"/>
                </a:lnTo>
                <a:close/>
              </a:path>
              <a:path fill="darkenLess" w="24801" h="21600">
                <a:moveTo>
                  <a:pt x="248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01" y="20200"/>
                </a:lnTo>
                <a:close/>
              </a:path>
              <a:path fill="lighten" w="248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맑은 고딕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맑은 고딕"/>
            </a:endParaRPr>
          </a:p>
        </p:txBody>
      </p:sp>
      <p:grpSp>
        <p:nvGrpSpPr>
          <p:cNvPr id="231" name="Action Button: Custom 19"/>
          <p:cNvGrpSpPr/>
          <p:nvPr/>
        </p:nvGrpSpPr>
        <p:grpSpPr>
          <a:xfrm>
            <a:off x="122400" y="2408400"/>
            <a:ext cx="2419200" cy="2041200"/>
            <a:chOff x="122400" y="2408400"/>
            <a:chExt cx="2419200" cy="2041200"/>
          </a:xfrm>
        </p:grpSpPr>
        <p:pic>
          <p:nvPicPr>
            <p:cNvPr id="232" name="Action Button: Custom 19" descr="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122400" y="2408400"/>
              <a:ext cx="2419200" cy="20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52280" y="2438280"/>
              <a:ext cx="2362320" cy="19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000000"/>
                  </a:solidFill>
                  <a:latin typeface="맑은 고딕"/>
                </a:rPr>
                <a:t>4</a:t>
              </a:r>
              <a:endParaRPr b="0" lang="en-US" sz="11500" spc="-1" strike="noStrike">
                <a:solidFill>
                  <a:srgbClr val="000000"/>
                </a:solidFill>
                <a:latin typeface="맑은 고딕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34" name="Action Button: Custom 20"/>
          <p:cNvGrpSpPr/>
          <p:nvPr/>
        </p:nvGrpSpPr>
        <p:grpSpPr>
          <a:xfrm>
            <a:off x="3322800" y="122400"/>
            <a:ext cx="2419200" cy="2041200"/>
            <a:chOff x="3322800" y="122400"/>
            <a:chExt cx="2419200" cy="2041200"/>
          </a:xfrm>
        </p:grpSpPr>
        <p:pic>
          <p:nvPicPr>
            <p:cNvPr id="235" name="Action Button: Custom 20" descr="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3322800" y="122400"/>
              <a:ext cx="2419200" cy="20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352680" y="152280"/>
              <a:ext cx="2362320" cy="19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000000"/>
                  </a:solidFill>
                  <a:latin typeface="맑은 고딕"/>
                </a:rPr>
                <a:t>2</a:t>
              </a:r>
              <a:endParaRPr b="0" lang="en-US" sz="11500" spc="-1" strike="noStrike">
                <a:solidFill>
                  <a:srgbClr val="000000"/>
                </a:solidFill>
                <a:latin typeface="맑은 고딕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37" name="Action Button: Custom 21"/>
          <p:cNvGrpSpPr/>
          <p:nvPr/>
        </p:nvGrpSpPr>
        <p:grpSpPr>
          <a:xfrm>
            <a:off x="6602400" y="2335320"/>
            <a:ext cx="2419200" cy="2035080"/>
            <a:chOff x="6602400" y="2335320"/>
            <a:chExt cx="2419200" cy="2035080"/>
          </a:xfrm>
        </p:grpSpPr>
        <p:pic>
          <p:nvPicPr>
            <p:cNvPr id="238" name="Action Button: Custom 21" descr="">
              <a:hlinkClick r:id="rId15"/>
            </p:cNvPr>
            <p:cNvPicPr/>
            <p:nvPr/>
          </p:nvPicPr>
          <p:blipFill>
            <a:blip r:embed="rId16"/>
            <a:stretch/>
          </p:blipFill>
          <p:spPr>
            <a:xfrm>
              <a:off x="6602400" y="2335320"/>
              <a:ext cx="241920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629400" y="2362320"/>
              <a:ext cx="236232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000000"/>
                  </a:solidFill>
                  <a:latin typeface="맑은 고딕"/>
                </a:rPr>
                <a:t>6</a:t>
              </a:r>
              <a:endParaRPr b="0" lang="en-US" sz="11500" spc="-1" strike="noStrike">
                <a:solidFill>
                  <a:srgbClr val="000000"/>
                </a:solidFill>
                <a:latin typeface="맑은 고딕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240" name="Action Button: Custom 22"/>
          <p:cNvGrpSpPr/>
          <p:nvPr/>
        </p:nvGrpSpPr>
        <p:grpSpPr>
          <a:xfrm>
            <a:off x="3322800" y="4621320"/>
            <a:ext cx="2419200" cy="2035080"/>
            <a:chOff x="3322800" y="4621320"/>
            <a:chExt cx="2419200" cy="2035080"/>
          </a:xfrm>
        </p:grpSpPr>
        <p:pic>
          <p:nvPicPr>
            <p:cNvPr id="241" name="Action Button: Custom 22" descr="">
              <a:hlinkClick r:id="rId17"/>
            </p:cNvPr>
            <p:cNvPicPr/>
            <p:nvPr/>
          </p:nvPicPr>
          <p:blipFill>
            <a:blip r:embed="rId18"/>
            <a:stretch/>
          </p:blipFill>
          <p:spPr>
            <a:xfrm>
              <a:off x="3322800" y="4621320"/>
              <a:ext cx="241920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3352680" y="4648320"/>
              <a:ext cx="236232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000000"/>
                  </a:solidFill>
                  <a:latin typeface="맑은 고딕"/>
                </a:rPr>
                <a:t>8</a:t>
              </a:r>
              <a:endParaRPr b="0" lang="en-US" sz="11500" spc="-1" strike="noStrike">
                <a:solidFill>
                  <a:srgbClr val="000000"/>
                </a:solidFill>
                <a:latin typeface="맑은 고딕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5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www.eslpod.com/eslpod_blog/wp-content/uploads/2008/05/pig-thumb.jpg"/>
          <p:cNvPicPr/>
          <p:nvPr/>
        </p:nvPicPr>
        <p:blipFill>
          <a:blip r:embed="rId1"/>
          <a:stretch/>
        </p:blipFill>
        <p:spPr>
          <a:xfrm>
            <a:off x="0" y="0"/>
            <a:ext cx="47592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ular Callout 4"/>
          <p:cNvSpPr/>
          <p:nvPr/>
        </p:nvSpPr>
        <p:spPr>
          <a:xfrm>
            <a:off x="5105520" y="1295280"/>
            <a:ext cx="3733560" cy="2895840"/>
          </a:xfrm>
          <a:prstGeom prst="wedgeRectCallout">
            <a:avLst>
              <a:gd name="adj1" fmla="val -69532"/>
              <a:gd name="adj2" fmla="val 25347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5022360" y="2133720"/>
            <a:ext cx="402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C. oink!</a:t>
            </a:r>
            <a:endParaRPr b="0" lang="en-US" sz="8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3"/>
          <p:cNvSpPr/>
          <p:nvPr/>
        </p:nvSpPr>
        <p:spPr>
          <a:xfrm>
            <a:off x="4231800" y="182880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3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mrana.typepad.com/bitbybit/images/2007/11/18/171rooster_3.jpg"/>
          <p:cNvPicPr/>
          <p:nvPr/>
        </p:nvPicPr>
        <p:blipFill>
          <a:blip r:embed="rId1"/>
          <a:stretch/>
        </p:blipFill>
        <p:spPr>
          <a:xfrm>
            <a:off x="5410080" y="-19080"/>
            <a:ext cx="3733920" cy="41194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0" y="403848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Rectangle 4"/>
          <p:cNvSpPr/>
          <p:nvPr/>
        </p:nvSpPr>
        <p:spPr>
          <a:xfrm rot="16200000">
            <a:off x="3314520" y="5448240"/>
            <a:ext cx="2743200" cy="75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5562720"/>
            <a:ext cx="914400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611280" y="5749920"/>
            <a:ext cx="337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C. Sleck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5118120" y="4267080"/>
            <a:ext cx="299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roadway"/>
              </a:rPr>
              <a:t>B. AAA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0" y="4038480"/>
            <a:ext cx="464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Harlow Solid Italic"/>
              </a:rPr>
              <a:t>A. cockle-doodle-do!</a:t>
            </a: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5348520" y="5749920"/>
            <a:ext cx="3352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Jokerman"/>
              </a:rPr>
              <a:t>D. kiriki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Rectangular Callout 14"/>
          <p:cNvSpPr/>
          <p:nvPr/>
        </p:nvSpPr>
        <p:spPr>
          <a:xfrm>
            <a:off x="228600" y="228600"/>
            <a:ext cx="4876920" cy="3124080"/>
          </a:xfrm>
          <a:prstGeom prst="wedgeRectCallout">
            <a:avLst>
              <a:gd name="adj1" fmla="val 58694"/>
              <a:gd name="adj2" fmla="val -27129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How do I wake up people?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mrana.typepad.com/bitbybit/images/2007/11/18/171rooster_3.jpg"/>
          <p:cNvPicPr/>
          <p:nvPr/>
        </p:nvPicPr>
        <p:blipFill>
          <a:blip r:embed="rId1"/>
          <a:stretch/>
        </p:blipFill>
        <p:spPr>
          <a:xfrm>
            <a:off x="5410080" y="0"/>
            <a:ext cx="373392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ular Callout 4"/>
          <p:cNvSpPr/>
          <p:nvPr/>
        </p:nvSpPr>
        <p:spPr>
          <a:xfrm>
            <a:off x="152280" y="990720"/>
            <a:ext cx="4876920" cy="2895480"/>
          </a:xfrm>
          <a:prstGeom prst="wedgeRectCallout">
            <a:avLst>
              <a:gd name="adj1" fmla="val 60347"/>
              <a:gd name="adj2" fmla="val -25736"/>
            </a:avLst>
          </a:prstGeom>
          <a:solidFill>
            <a:srgbClr val="4f81bd">
              <a:alpha val="2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152280" y="990720"/>
            <a:ext cx="48769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Harlow Solid Italic"/>
              </a:rPr>
              <a:t>A. cockle-doodle-do!</a:t>
            </a:r>
            <a:endParaRPr b="0" lang="en-US" sz="8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05:39:10Z</dcterms:created>
  <dc:creator>HP</dc:creator>
  <dc:description/>
  <dc:language>en-US</dc:language>
  <cp:lastModifiedBy>영어실교사용</cp:lastModifiedBy>
  <dcterms:modified xsi:type="dcterms:W3CDTF">2011-03-11T02:38:00Z</dcterms:modified>
  <cp:revision>8</cp:revision>
  <dc:subject/>
  <dc:title>Slide 1</dc:title>
</cp:coreProperties>
</file>